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7B10-7DE5-4A4F-A034-DFC58DC56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B932-1171-48C0-90EA-9F4BE2A9E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3207-DC18-4374-9E86-36D25588D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0090-535D-4FCC-A5D1-7AE445CF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EBC3-784B-4583-B145-F15D09ED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5939-D20E-4794-A0B5-95AF2011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1B72-2EF5-4BC2-898E-DED60797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C0A2-AA27-4277-9A6A-709AF4FD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D9D7-38D7-4DF4-AEE7-9E42B8A4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F5AA-A7CF-4E61-BA2F-F0D86A0B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023C-2F5C-4762-B7B0-E00BCD47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E04C-8E47-4A4D-9640-CFA85F86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D430-639D-4769-BC42-F479E271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CC1C-8959-4D6F-8E1F-37A74046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0A0E-CE8A-4E3A-ABB6-8EFD7E8C1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osario Hernand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Rosario Hernand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Rosario Hernandez (10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8195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8195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Rosario Hernand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31240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Rosario Hernand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4382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dga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llamo Rosario y tengo 14 años. Yo vivo en Nueva York con mis padres y mis hermanos. Mi hermana se llama Guadalupe y mi hermano Alexis. Yo soy feliz y divertid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208080" y="5254560"/>
            <a:ext cx="371520" cy="94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90640" y="5254560"/>
            <a:ext cx="371520" cy="94464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iovann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237960" y="5937120"/>
            <a:ext cx="335160" cy="7984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ilen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5254560"/>
            <a:ext cx="451080" cy="63972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562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sl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Rosar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Yo tambien estoy bien. Dime algo de ti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Lesle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Rosario! ¿Muy bien y tu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Rosar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amiga! ¿Como esta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e gusta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Lesl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i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la amigos! ¿Como estan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3" descr="Photo on 2011-11-29 at 13.54.jpg"/>
          <p:cNvPicPr/>
          <p:nvPr/>
        </p:nvPicPr>
        <p:blipFill>
          <a:blip r:embed="rId5"/>
          <a:stretch/>
        </p:blipFill>
        <p:spPr>
          <a:xfrm>
            <a:off x="914400" y="5943600"/>
            <a:ext cx="285840" cy="380880"/>
          </a:xfrm>
          <a:prstGeom prst="rect">
            <a:avLst/>
          </a:prstGeom>
          <a:ln w="0">
            <a:noFill/>
          </a:ln>
        </p:spPr>
      </p:pic>
      <p:sp>
        <p:nvSpPr>
          <p:cNvPr id="98" name="TextBox 62"/>
          <p:cNvSpPr/>
          <p:nvPr/>
        </p:nvSpPr>
        <p:spPr>
          <a:xfrm>
            <a:off x="844560" y="6324480"/>
            <a:ext cx="45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sc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3:48:23Z</dcterms:created>
  <dc:creator>FriscoISD</dc:creator>
  <dc:description/>
  <dc:language>en-US</dc:language>
  <cp:lastModifiedBy>NYCDOE</cp:lastModifiedBy>
  <dcterms:modified xsi:type="dcterms:W3CDTF">2012-12-05T14:15:42Z</dcterms:modified>
  <cp:revision>101</cp:revision>
  <dc:subject/>
  <dc:title>Profile</dc:title>
</cp:coreProperties>
</file>